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B2CE-DEB3-47EC-920C-CF9F94B5A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7245-0C3B-4464-9511-CD175964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BE4A-E9C7-4046-B529-64AFC37D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6E90-6670-49E9-8BF8-1D3C529F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E1E9-DB76-4125-A4FE-D7B3B3EFF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47CC-F3C5-484E-8BBE-B3ABC77D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1303-C2F1-48AE-8072-07703E13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5420-F961-421B-8A76-79D539A5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5929-0432-4A17-BF87-663E8E87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64E6-1D2D-4D44-8E5D-23EA1714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D97F-E54C-4211-A908-6C1C7D88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FF61-D840-4FF8-8780-ECA3A47A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0811-AF6F-4D4B-A570-7269168B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A893-C7A1-4E82-B6FE-75875B08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E22F-1B6F-41F7-BD27-32D796FA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8AE8-F28C-48C7-9B3B-5850FDB1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A151-3D20-494C-9F13-00E458073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5C9E-1FA2-4F13-BFC4-4EB8281C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924F-5AEB-44FB-A7BD-55CB99AE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9604-8B56-4EAC-9C1D-D9EC2BE9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E872-9A30-48FE-91FE-E71464DA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0362-AE73-4E46-BC54-D1BE599F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395F-7840-4926-9589-298A4AD4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1019-408E-4944-9E46-786F96CF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2CBE-7246-4EC9-939C-EA20DF65F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EEDC-C443-4B26-8EBE-7C7ED5F63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7543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Chapter 16.1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Genes and Variatio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Chapter 16.2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volution as Genetic Chan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Natural Selection on Single Gene Trait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selection on single gene traits can lead to changes in allele frequencies and thus to 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ppered moths during industrial r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581280" y="2743200"/>
            <a:ext cx="4838760" cy="3040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V="1">
            <a:off x="3048120" y="4723920"/>
            <a:ext cx="1676160" cy="1752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Natural Selection on Polygenic Trait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selection can affect the distributions of phenotypes in any of three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bilizing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ruptive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Directional Selec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ndividuals are one end of the cure have higher fitness than individuals in the middle or at the other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657600" y="2133720"/>
            <a:ext cx="39290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tabilizing Selec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ndividuals near the center of the curve have higher fitness than individuals at either end of the cu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32432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Disruptive Selec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ndividuals at the upper and lower ends of the curve have higher fitness than individuals near the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390920" y="1828800"/>
            <a:ext cx="32259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Genetic Drif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change in allele frequency in small pop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population may not fit the predicted genetic prob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mall populations, individuals that carry a particular allele may leave more descendants than other individuals, just by chance.  Over time, a series of chance occurrences of this type can cause an allele to become common in a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Founder Effec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ituation in which allele frequencies change as a result of the migration of a small subgroup of a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Hardy Weinberg Principl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that allele frequencies in a population will remain constant unless one or more factors cause those frequencies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genetic frequencies remain constant, it is called genetic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Five Conditions of Genetic Equilibriu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ve conditions required to maintain genetic equilibrium from generation to generation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mating must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must be very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can be no movement into or out of th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u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atural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Darwin’s Handicap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hough Mendel’s work on genetics was published in Darwin’s lifetime, there were two big gaps in his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win had no idea how heritable traits pass from one generation to the 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variation in heritable traits was central to Darwin’s theory, he had no idea how that variation appe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Mendel meets Darwi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n’t until the 1930’s that Mendel’s ideas of genes fused with Darwin’s ideas of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in genes produce heritable variation on which natural selection can ope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Gene Pool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 variation is studied in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roup of individuals of the same species that interbr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ene poo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s of all the genes, including all the different alleles, that are present in a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Relative Frequency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lative frequency of an allele is the number o times that the allele occurs in a gene pool, compared with the number o times other alleles for the same gene occ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enetic terms, evolution is any change in the relative frequency of alleles in a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Genetic Varia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wo main sources of genetic variation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netic shuffling that results from sexual reproduction, including crossing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ingle Gene vs. Polygenic Trait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phenotypes produced for a given trait depends on how many genes control the tr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gene trait – phenotype that is controlled by a single gene that has two alle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ies are represented by a bar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genic trait – phenotype that are controlled by two or more genes, often involving two or more alle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ies are represented in a line graph (bell cur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Genetic Views of Evolu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utionary fitness is an organism’s success in passing genes to the next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utionary adaptations are any genetically controlled physiological, anatomical, or behavioral trait that increases an individual’s ability to pass on its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Natural Selection and Genetic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selection never acts on a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cts on the organism as a whole (the entire collection of ge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 only affect which individuals survive and reproduce and which do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7:42:18Z</dcterms:created>
  <dc:creator>udsd</dc:creator>
  <dc:description/>
  <dc:language>en-US</dc:language>
  <cp:lastModifiedBy>udsd</cp:lastModifiedBy>
  <dcterms:modified xsi:type="dcterms:W3CDTF">2010-06-01T21:42:33Z</dcterms:modified>
  <cp:revision>20</cp:revision>
  <dc:subject/>
  <dc:title>PowerPoint Presentation</dc:title>
</cp:coreProperties>
</file>